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C33-AE38-4613-A761-68EDC8A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7B8-24B8-4AAD-894B-EA19BD39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DA7-4D87-4D04-BC99-1AEA32C1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140-0DF3-4BB3-98F7-32784697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DB6-C97E-4141-BD18-9E32B2FB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C839-88FA-444B-9A49-96734BA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5BDB-0B71-4AE1-8B0D-CFF4A4B6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28FA-A737-4C51-B54F-10F0E915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62B2-B93A-4717-9A66-95565F36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DC2C-90E8-4869-A30C-B876E5B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15EF-0BB9-446E-B0E3-859A1E1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D27-0AAF-427D-A7EA-29E3AF34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3B5-D6E9-4C68-BBB3-818CFE7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4FE0-8FBF-49A4-9EC1-0FF560A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5FE-33B7-4553-889F-6A2DFBB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E0D-92B3-4E1B-9C17-FDC67E9B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443-F505-4493-B66E-FA05AEB7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930-9AE0-453C-8B79-E5CFA68D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2C0-D51E-4F3B-89BA-FD0C0A16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423-DAC6-4D0C-A667-2B84BCF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419-5749-4D6B-A7CF-A2E6C5A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5D1-669B-49DA-9685-41D098A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C96-21AC-41D5-AFD4-5DF83B8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722-17B4-4424-AC40-09965E5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FB18-82A6-4EFE-887A-60B9B6AD4D6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09B-E8D1-4AF2-A8CA-C7E14489C7C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LTAnlHLTtKY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Book Antiqua"/>
              </a:rPr>
              <a:t>Călătorie in trecutul istoric 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Book Antiqua"/>
              </a:rPr>
              <a:t>neamului  românes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4" descr="Decebal.gif"/>
          <p:cNvPicPr/>
          <p:nvPr/>
        </p:nvPicPr>
        <p:blipFill>
          <a:blip r:embed="rId2"/>
          <a:stretch/>
        </p:blipFill>
        <p:spPr>
          <a:xfrm>
            <a:off x="285840" y="2930400"/>
            <a:ext cx="4209840" cy="194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roi au fost , eroi sunt încă,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-or fi, în neamul românesc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ăci rupţi sunt ca din tare stâncă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Românii ori şi unde cresc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 viţa noastra fauri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e doi barbaţi cu braţe tar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 cu voinţa oţelită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u minţi deştepte,inimi mar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Şi unu-i Decebal cel harnic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Iar celălalt Traian cel drept,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i pentru vatra lor, amarnic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Au dat cu-atâţia duşmani piept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(Pui de lei, de I.S.Neniţescu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Book Antiqua"/>
              </a:rPr>
              <a:t>Mihai Viteazul a fost primul domnitor care a unit cele trei ţări româneşti: Moldova, Ţara Românească şi Ardealul, intre anii 1600 şi 1601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Content Placeholder 4" descr="http://www.clopotel.ro/enciclopedia/resources/File/istorie/mihai%20viteazu.jpg"/>
          <p:cNvPicPr/>
          <p:nvPr/>
        </p:nvPicPr>
        <p:blipFill>
          <a:blip r:embed="rId2"/>
          <a:stretch/>
        </p:blipFill>
        <p:spPr>
          <a:xfrm>
            <a:off x="5429160" y="1928880"/>
            <a:ext cx="31435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47960" y="1600200"/>
            <a:ext cx="43527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 plecat  cu oaste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şi n-a mai venit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n orologiu sună noaptea jumătat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a castel, în poartă oare cine bate?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u sunt, bună maică, fiul tău dorit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u, şi de la oaste ma întorc rănit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oarta noastră fuse cruda astă dată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Mica mea oştire fuge sfărâmată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e spui tu, străine? Ştefan e depar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Braţul său prin taberi mii de morţi împar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acă tu eşti Ştefan cu adevăr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u-te la oştire, pentru ţară mori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Şi-ţi va fi mormântu-ncoronat cu flori!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(Mama lui Şt.Mare, D. Bolintineanu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6" descr="http://www.timpultau.ro/UserFiles/photo/MirceatheElder_03162310.jpg"/>
          <p:cNvPicPr/>
          <p:nvPr/>
        </p:nvPicPr>
        <p:blipFill>
          <a:blip r:embed="rId2"/>
          <a:stretch/>
        </p:blipFill>
        <p:spPr>
          <a:xfrm>
            <a:off x="1285920" y="2214720"/>
            <a:ext cx="257184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213920"/>
            <a:ext cx="3900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4720" y="1428840"/>
            <a:ext cx="4041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A ÎNFĂPTUIT MICA UNIRE DINTRE MOLDOVA ŞI ŢARA ROMÂNEASCĂ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PRIMUL DOMNITOR AL PRINCIPATELOR UNITE ŞI AL STATULUI NAŢIONAL ROMÂNIA 1859-1862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71400"/>
            <a:ext cx="4040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Hai să dăm mână cu mână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Cei cu inima română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Să-nvârtim hora frăţie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e pământul Românie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              </a:t>
            </a: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(V. Alecsandr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6" descr="http://www.presidency.ro/include/romania/80/alexandru_ioan_cuza-mic.jpg"/>
          <p:cNvPicPr/>
          <p:nvPr/>
        </p:nvPicPr>
        <p:blipFill>
          <a:blip r:embed="rId2"/>
          <a:stretch/>
        </p:blipFill>
        <p:spPr>
          <a:xfrm>
            <a:off x="5429160" y="3357720"/>
            <a:ext cx="23306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3524400" cy="93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2560" y="1523880"/>
            <a:ext cx="3500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29040" y="272520"/>
            <a:ext cx="475776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Ţara mea are lanuri mănoase,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Dealuri înalte pline de flor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Apele limpezi şi răcoroase,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Cerul albastru fără de nor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Ţara noastră nu e ţară de vânz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Patria străbună e nemuritoar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Chiar de valul vieţii trece peste no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Book Antiqua"/>
              </a:rPr>
              <a:t>Noi trăim în lume liberi şi ero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http://www.calificativ.ro/_files/Image/news/romania%5B1%5D-18049.jpg"/>
          <p:cNvPicPr/>
          <p:nvPr/>
        </p:nvPicPr>
        <p:blipFill>
          <a:blip r:embed="rId2"/>
          <a:stretch/>
        </p:blipFill>
        <p:spPr>
          <a:xfrm>
            <a:off x="357120" y="200016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329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N  1990  ESTE  IMNUL  ROMÂNIE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Deşteaptă-te, române, din somnul cel de moart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În care te-adânciră barbarii de tirani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Acum ori niciodată, croieşte-ţi altă soartă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La care să se-nchine şi cruzii tăi duşmani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Content Placeholder 6" descr="http://2.gvt0.com/vi/LTAnlHLTtKY/defaul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57880" y="24289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56:38Z</dcterms:created>
  <dc:creator>Maria</dc:creator>
  <dc:description/>
  <dc:language>en-US</dc:language>
  <cp:lastModifiedBy>Maria</cp:lastModifiedBy>
  <dcterms:modified xsi:type="dcterms:W3CDTF">2009-12-14T17:43:02Z</dcterms:modified>
  <cp:revision>10</cp:revision>
  <dc:subject/>
  <dc:title>ŢARA MEA</dc:title>
</cp:coreProperties>
</file>